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FD19-958D-4C28-8905-E833EDF8F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9676d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2D44-7922-4A83-8E6E-13F93ACB1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9676d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3460-667B-45B5-AB04-FA570B34F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9676d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85E9-ED7B-4391-A548-17339EF62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86A39-B2AF-47AB-8EF4-5911F992B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9676d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CA02E-B5A4-41AF-A9DD-D58F68732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9676d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1F2BC-3132-4830-A84F-CDE6F62D5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9676d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376FD-D144-4C87-82D3-C5FA1849A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9676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F5BAF-4DC4-4E6B-89CF-E890F4F05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051A8-BF63-4991-BCE9-FFD076CF0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9676d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3BAC8-E2A1-4B38-929E-A84106AED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9676d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F6DF-F8C1-41CD-B758-DAE5956C7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9676d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3E46D-22BF-4ECE-813E-4ED75A684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9676d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164A3-7D4A-4073-AF83-730789C37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9676d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12926-BA55-4068-891A-567D9C491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9676d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9F88F-28ED-487B-8FCA-2B0889E84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9676d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ACDF8-7922-4012-BFBD-89B1D5F55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9676d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8F2D-54AA-46EF-A974-C77327222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9676d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0A22-F419-4909-B323-58914676D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9676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D388-A713-4FE5-AFB9-6C0274955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5DCA-875B-4BE8-BF58-E3E3E8EB5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9676d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683A-32BA-49FB-9C17-5545CDBE3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9676d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0641-175A-4F92-82C4-81F8E0D7B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9676d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4F14-0127-439B-89AA-9CAF1C3B5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72845c">
                  <a:alpha val="45098"/>
                </a:srgbClr>
              </a:gs>
              <a:gs pos="100000">
                <a:srgbClr val="49accd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42869e">
                  <a:alpha val="45098"/>
                </a:srgbClr>
              </a:gs>
              <a:gs pos="100000">
                <a:srgbClr val="8aa26c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9676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9676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6bb1c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ceb96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9cb084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6bb1c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585c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46268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46268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646268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F82D2-CE1C-4677-8515-A1883F6C84BB}" type="slidenum">
              <a:rPr b="0" lang="en-GB" sz="1200" spc="-1" strike="noStrike">
                <a:solidFill>
                  <a:srgbClr val="646268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72845c">
                  <a:alpha val="45098"/>
                </a:srgbClr>
              </a:gs>
              <a:gs pos="100000">
                <a:srgbClr val="49accd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42869e">
                  <a:alpha val="45098"/>
                </a:srgbClr>
              </a:gs>
              <a:gs pos="100000">
                <a:srgbClr val="8aa26c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9676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9676d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6bb1c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ceb96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9cb084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6bb1c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585c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46268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46268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646268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7E9ED-AD19-48A0-B7A5-0D832BF53B1E}" type="slidenum">
              <a:rPr b="0" lang="en-GB" sz="1200" spc="-1" strike="noStrike">
                <a:solidFill>
                  <a:srgbClr val="646268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www.quantcast.com/p-fcYWUmj5YbYKM" TargetMode="External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quantcast.com/p-fcYWUmj5YbYKM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Title 1" descr=""/>
          <p:cNvPicPr/>
          <p:nvPr/>
        </p:nvPicPr>
        <p:blipFill>
          <a:blip r:embed="rId1"/>
          <a:stretch/>
        </p:blipFill>
        <p:spPr>
          <a:xfrm>
            <a:off x="633240" y="231840"/>
            <a:ext cx="8334720" cy="17985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428840" y="47858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Supervisors: Simon Richardson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and Paul Dy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By Amanda Arye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7" name="Picture 3" descr="Quantcast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360" cy="9360"/>
          </a:xfrm>
          <a:prstGeom prst="rect">
            <a:avLst/>
          </a:prstGeom>
          <a:ln w="0">
            <a:noFill/>
          </a:ln>
        </p:spPr>
      </p:pic>
      <p:sp>
        <p:nvSpPr>
          <p:cNvPr id="98" name="AutoShape 4"/>
          <p:cNvSpPr/>
          <p:nvPr/>
        </p:nvSpPr>
        <p:spPr>
          <a:xfrm>
            <a:off x="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9" name="Picture 2" descr="Pokeweed 8-20"/>
          <p:cNvPicPr/>
          <p:nvPr/>
        </p:nvPicPr>
        <p:blipFill>
          <a:blip r:embed="rId4"/>
          <a:stretch/>
        </p:blipFill>
        <p:spPr>
          <a:xfrm>
            <a:off x="1714680" y="2643120"/>
            <a:ext cx="557208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Calibri"/>
              </a:rPr>
              <a:t>Background</a:t>
            </a:r>
            <a:endParaRPr b="0" lang="en-US" sz="5000" spc="-1" strike="noStrike">
              <a:solidFill>
                <a:srgbClr val="69676d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6bb1c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A plant containing type 1 ribosome inactivating protein (RIP) PAP (Pokeweed antiviral protein). It catalytically inactivates ribosome's, thus inhibiting protein synthesi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6bb1c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Depurination in ribosome's shown to occur in functionally equivalent positions in prokaryotes and eukaryot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6bb1c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Current drug delivery systems, although effective, have their advantages and disadvantages and can be improved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02" name="Picture 3" descr="Quantcas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360" cy="9360"/>
          </a:xfrm>
          <a:prstGeom prst="rect">
            <a:avLst/>
          </a:prstGeom>
          <a:ln w="0">
            <a:noFill/>
          </a:ln>
        </p:spPr>
      </p:pic>
      <p:sp>
        <p:nvSpPr>
          <p:cNvPr id="103" name="AutoShape 4"/>
          <p:cNvSpPr/>
          <p:nvPr/>
        </p:nvSpPr>
        <p:spPr>
          <a:xfrm>
            <a:off x="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Calibri"/>
              </a:rPr>
              <a:t>Methodology</a:t>
            </a:r>
            <a:r>
              <a:rPr b="0" lang="en-GB" sz="5000" spc="-1" strike="noStrike">
                <a:solidFill>
                  <a:srgbClr val="69676d"/>
                </a:solidFill>
                <a:latin typeface="Calibri"/>
              </a:rPr>
              <a:t> </a:t>
            </a:r>
            <a:endParaRPr b="0" lang="en-US" sz="5000" spc="-1" strike="noStrike">
              <a:solidFill>
                <a:srgbClr val="69676d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6bb1c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Initially PAP will be sub cloned: recombinant PCR will be used to mutate the PAP sequence creating two combinations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6bb1c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1. Mutated (point mutation) R68G with active site intac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6bb1c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2. Mutated R68G with mutated active sit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6bb1c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Expression by bacterial expression cassette: pET151/D-TOP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6bb1c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Evaluation of protein by Western Blotting: an analytical technique using antibody protein binding to detect specific protein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Calibri"/>
              </a:rPr>
              <a:t>Evaluations</a:t>
            </a:r>
            <a:endParaRPr b="0" lang="en-US" sz="5000" spc="-1" strike="noStrike">
              <a:solidFill>
                <a:srgbClr val="69676d"/>
              </a:solidFill>
              <a:latin typeface="Calibri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214200" y="2000160"/>
            <a:ext cx="4280040" cy="3214800"/>
          </a:xfrm>
          <a:prstGeom prst="rect">
            <a:avLst/>
          </a:prstGeom>
          <a:ln w="0">
            <a:noFill/>
          </a:ln>
        </p:spPr>
      </p:pic>
      <p:sp>
        <p:nvSpPr>
          <p:cNvPr id="108" name="TextBox 4"/>
          <p:cNvSpPr/>
          <p:nvPr/>
        </p:nvSpPr>
        <p:spPr>
          <a:xfrm>
            <a:off x="4643280" y="642960"/>
            <a:ext cx="40006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A protein antibody-antibody sandwich is mad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Secondary antibody has horse radish peroxidase enzyme which converts a luminol substrate to a light releasing substance. Its intensity helps determine the volume of protein relative to other spo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From this it can be evaluated whether optimal expression and cloning has occurre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Calibri"/>
              </a:rPr>
              <a:t>Likely Outcomes</a:t>
            </a:r>
            <a:endParaRPr b="0" lang="en-US" sz="5000" spc="-1" strike="noStrike">
              <a:solidFill>
                <a:srgbClr val="69676d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56320" indent="-256320">
              <a:lnSpc>
                <a:spcPct val="90000"/>
              </a:lnSpc>
              <a:spcBef>
                <a:spcPts val="649"/>
              </a:spcBef>
              <a:buClr>
                <a:srgbClr val="6bb1c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Although there are drawbacks the hopeful outcomes are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49"/>
              </a:spcBef>
              <a:buClr>
                <a:srgbClr val="6bb1c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Improved PAP production in pET151/DTOPO when R68G is cloned. Optimal conditions obtained for two cloning typ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49"/>
              </a:spcBef>
              <a:buClr>
                <a:srgbClr val="6bb1c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Modification of PAP sequence, for least cytotoxicity to cell of drug delivery. R68G mutation will enhance thi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49"/>
              </a:spcBef>
              <a:buClr>
                <a:srgbClr val="6bb1c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The expected result is for the best possible sequence combination which allows for non damaging drug delivery. The second clone will be less cytotoxic thus more effectiv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01:03:26Z</dcterms:created>
  <dc:creator>User</dc:creator>
  <dc:description/>
  <dc:language>en-US</dc:language>
  <cp:lastModifiedBy>User</cp:lastModifiedBy>
  <dcterms:modified xsi:type="dcterms:W3CDTF">2010-11-24T09:37:53Z</dcterms:modified>
  <cp:revision>52</cp:revision>
  <dc:subject/>
  <dc:title>Pokeweed Antiviral Project</dc:title>
</cp:coreProperties>
</file>